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ADC59-3ADC-4D59-95FF-1039F6865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70375-2219-4668-8A6E-B283AC286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B91DE-FEA8-4ACB-A04E-3CD12A5A9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EC1BC-96EF-47D7-ADB0-91093DAF08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3C437-01AC-4EC9-9B1F-BD455E3648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07537-3D90-46B2-89EC-6EAF7AE8D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15EE4-2A2E-4780-9D34-AC0BA7504F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EAC81-6B7A-45BB-88A0-25566722B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4972E-47E8-4F1F-8136-2BDFA8291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A072-0E52-4BC8-91E5-3862FA424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5D0D-2951-4084-B738-912831BD4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1598-DC34-48BD-A076-A5E849B99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E38E-4A5A-44F8-BC8C-9B77D59DD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5A76A-DE68-426C-91B5-A8E45634E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75A1D-2409-4716-AF65-FEE1CDBD9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F38F8-E3A4-44F9-8890-D300DB748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AA82E-89F9-4EB2-8CF5-BDB6C42BB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4930C-A342-4DCE-AE2B-D0DF594AC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51A80-39C0-45A5-B501-798128F46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392B6-8A24-491A-B759-F30AF74F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25F1-E745-40AA-AE63-6817D04CC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8F948-DCC1-4460-92A5-D4735A174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718F8-C12A-40CC-B736-BE9CE52FB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C10F3-7D36-44E2-9C57-7E17CCD27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D70C9-C053-4485-8C8E-F7B5F2B03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A4880-D18B-44FE-A629-F3233C7C7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A6E7-23B0-48AF-BA77-E780EB992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6CA1-053B-4BB6-BE50-AAFFCB67F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40F4-61FA-4CB7-BBDE-6E425D2A8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DFE1-62AE-4347-BEE5-7F09AACFA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3E96-54BB-41C6-B347-2E3665409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23DE-9BA6-49DD-8A8C-AA015C0B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F7AF-CCD9-41AD-B7F1-5C4E59956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EE35D-8F6E-4852-82EC-5DFC61CD7241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310A3-65C8-4D52-99F5-9A09579A2DBD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advanced-training.org.uk/" TargetMode="External"/><Relationship Id="rId2" Type="http://schemas.openxmlformats.org/officeDocument/2006/relationships/hyperlink" Target="http://www.complexneeds.org.uk/" TargetMode="External"/><Relationship Id="rId3" Type="http://schemas.openxmlformats.org/officeDocument/2006/relationships/hyperlink" Target="http://www.idponline.org.uk/" TargetMode="External"/><Relationship Id="rId4" Type="http://schemas.openxmlformats.org/officeDocument/2006/relationships/hyperlink" Target="http://www.nasentraining.org.uk/training-pack" TargetMode="External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6920" y="301680"/>
            <a:ext cx="8066160" cy="60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AN OVERVIEW OF THE NEW SEN SYSTEM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42560" y="1483920"/>
            <a:ext cx="7921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utumn Term 201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esented by the SENC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6" descr="children"/>
          <p:cNvPicPr/>
          <p:nvPr/>
        </p:nvPicPr>
        <p:blipFill>
          <a:blip r:embed="rId1"/>
          <a:stretch/>
        </p:blipFill>
        <p:spPr>
          <a:xfrm>
            <a:off x="2987640" y="1844640"/>
            <a:ext cx="388944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00000" y="301320"/>
            <a:ext cx="7848720" cy="895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DEFINITION OF SEN PROVISI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115640" y="1557360"/>
            <a:ext cx="77770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N provision is that which is something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dditional to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ifferent from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at which  is provided for the majority of pupi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goes beyond the differentiated approaches and learning arrangements normally provided as part of high quality teachin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includes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asonable adjustments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ing made for disabled pupils, to ensure access to the curriculum, extra-curricular activities, facilities and informa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26560" y="301320"/>
            <a:ext cx="8137800" cy="96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N IS EVERY TEACHERS’ RESPONSIBILIT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71280" y="1628640"/>
            <a:ext cx="7848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EN Code of Practice (0-25) 2014 stat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Every teacher is responsible and accountable for the progress and development of all pupils in their class, wherever or whoever the pupils are working with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ich includes SEND pupils, who may be working with a specialist teacher, external professional or a teaching assistant, on an additional interven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Every teacher is expected to have an understanding of the strategies to identify &amp; support vulnerable pupils, and knowledge of the special educational needs most frequently encountere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9680" y="356760"/>
            <a:ext cx="828684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66"/>
                </a:solidFill>
                <a:latin typeface="Arial"/>
              </a:rPr>
              <a:t>          </a:t>
            </a:r>
            <a:r>
              <a:rPr b="1" lang="en-GB" sz="3200" spc="-1" strike="noStrike">
                <a:solidFill>
                  <a:srgbClr val="006666"/>
                </a:solidFill>
                <a:latin typeface="Arial"/>
              </a:rPr>
              <a:t>SEN PROVISION: SEN SUPPORT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00000" y="162828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N Support for those who don’t have an EHC Pl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raduated approach – 4 types of action: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sses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la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view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sses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range of information gathered to establish SEN pupil’s needs (learning &amp; well-bein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la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parents informed about pupils need for SEN Support; Class teacher, SENCO, parent &amp; pupil agree upon additional provision and expected progr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Class teacher responsible for SEN pupils assessment for learning, progress, curriculum plan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view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– class teacher reviews impact of SEN support termly, with parent/pupil &amp; revises SEN Suppor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8066160" cy="126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N PROVISION: EDUCATION, HEALTH AND CARE (EHC) PLAN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00000" y="1557360"/>
            <a:ext cx="82440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HC Plans ar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those with more complex nee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viewed formally annually – using person- centred planning and the structured conversati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utcomes focu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ear about how services will work together to support the outcomes &amp; meet the pupil’s nee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N pupil &amp; parent focused, putting them at the centre of decision making about SEN provi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luding information about how the parents personal budget for SEN is to be u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806436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MPLICATIONS OF THE SEN CHANGES FOR EVERY TEACHER &amp; TA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00000" y="1628640"/>
            <a:ext cx="8244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ll teachers and TAs must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now where SEN pupils are in their learning &amp; developmen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en to the views and insights of parents and the SEN pupil to inform planning for provision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high expectations and ambitions for SEN pupil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t stretching target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k SEN pupil progress towards meeting target set every term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ke regular assessments of SEN pupil progres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55280" y="30132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MPLICATIONS OF THE SEN CHANGES FOR EVERY TEACHER &amp; TA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971280" y="1557360"/>
            <a:ext cx="7848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ll teachers and TAs must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eep the additional/different provision under review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sure intervention approaches used are evidence-based and are having a positive impact on SEN pupil progres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an and review SEN support, in partnership with parents/carers’, the SEN pupil &amp; SENCO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est more specialist assessments where a SEN pupil appears to be making inadequate progress, and falling considerably behind their pe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895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Arial"/>
              </a:rPr>
              <a:t>THE ROLE OF THE SENCO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42920" y="1557360"/>
            <a:ext cx="78501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ategic lead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of SEN policy &amp; provi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providing professional advice and guidance to staff, on the graduated approach to SEN Supp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acity build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contributing to the professional development of teachers and TAs in meeting the four areas of S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labora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commissioning support from external agen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lity Assur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evaluating the impact of SEN Support and EHC Plan provision, across the scho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oc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for SEN pupils and their parents/carers’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74872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SIGNPOSTING TO FURTHER SEN RESOURCE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042920" y="1628640"/>
            <a:ext cx="78501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vanced training materials for autism; dyslexia; speech, language and communication; emotional, social and behavioural difficulties; &amp; moderate learning difficulties     </a:t>
            </a:r>
            <a:r>
              <a:rPr b="0" lang="en-US" sz="20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www.advanced-training.org.u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aining materials for complex need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www.complexneeds.org.u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clusion Development Programme (IDP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 u="sng">
                <a:solidFill>
                  <a:srgbClr val="006666"/>
                </a:solidFill>
                <a:uFillTx/>
                <a:latin typeface="Verdana"/>
                <a:hlinkClick r:id="rId3"/>
              </a:rPr>
              <a:t>www.idponline.org.u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asen resources: A Whole School Approach to Improving Access, Participation and Achieve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 u="sng">
                <a:solidFill>
                  <a:srgbClr val="006666"/>
                </a:solidFill>
                <a:uFillTx/>
                <a:latin typeface="Verdana"/>
                <a:hlinkClick r:id="rId4"/>
              </a:rPr>
              <a:t>www.nasentraining.org.uk/training-pac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FLECTION &amp; NEXT STEP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369800" y="1628280"/>
            <a:ext cx="73134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ny question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at will be your first priority for action following this presentation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82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               </a:t>
            </a:r>
            <a:r>
              <a:rPr b="1" lang="en-GB" sz="3200" spc="-1" strike="noStrike">
                <a:solidFill>
                  <a:srgbClr val="006666"/>
                </a:solidFill>
                <a:latin typeface="Arial"/>
              </a:rPr>
              <a:t>SYNOPSIS OF SESSI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6000" y="1557000"/>
            <a:ext cx="7704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N &amp; Disability legisl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is different in the new SEN syst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arifying SEND terminology, areas of SEN and identifi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N provision under the new SEN framework fo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N Support; and Education, Health &amp; Care Pl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lications of the SEN changes for Every Teacher and Teaching Assista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NCO ro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gnposting to useful SEN resources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Arial"/>
              </a:rPr>
              <a:t>SEN &amp; DISABILITY LEGISLATI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116000" y="1557360"/>
            <a:ext cx="7632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hildren and Families Act 2014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pecial Educational Needs Code of Practice (0-25) 2014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Equality Act 2010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280" y="301680"/>
            <a:ext cx="8425080" cy="82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WHAT IS DIFFERENT IN THE NEW SEN SYSTEM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13880" y="1628640"/>
            <a:ext cx="81788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 covers 0-25 age rang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 pupils &amp; their parents to inform SEN provi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 support (replacing Action and Action Plu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Ps replaced by an individual plan, outlining targets, expected outcomes, SEN provision made &amp; its impac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, Health &amp; Care Plans replace SEN stat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, Health &amp; Care services working closer together to provide additional SEN provi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280" y="301680"/>
            <a:ext cx="8604360" cy="75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Arial"/>
              </a:rPr>
              <a:t>DEFINITION OF SE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71640" y="1557360"/>
            <a:ext cx="79214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hild has SEN if they have a learning difficulty or disability which calls for special educational provision to be made for th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chool age child has a learning difficulty or disability if they hav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gnificant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reater difficulty in learning than their same age pe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26560" y="301320"/>
            <a:ext cx="7993080" cy="895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Arial"/>
              </a:rPr>
              <a:t>DEFINITION OF DISABILITY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71640" y="1557360"/>
            <a:ext cx="79214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hild has a disability if they have a physical or mental impairment, and the impairment has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bstantial and long-ter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erse effect on their ability to carry out normal day-to-day activiti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isability prevents or hinders the child from making use of educational facilities of a kind generally provided for others of the same ag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301320"/>
            <a:ext cx="8208720" cy="67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Arial"/>
              </a:rPr>
              <a:t>IDENTIFICATION – 4 AREAS OF SE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99640" y="1557360"/>
            <a:ext cx="79930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N Code of Practice (0-25) 2014 identifies four areas of SEN (high-incidence SE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unication &amp; interaction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Autistic spectrum, SLCN, SpLD, sensory, physical nee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gnition &amp; learning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MLD, SLD, SpLD, PML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cial, mental &amp; emotional health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.g. ADD, ADHD, Austistic spectrum, bipolar disorder, self harm, eating disorders, substance abuse, depres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sory and/or physical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HI, VI, MSI, P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000" y="301320"/>
            <a:ext cx="8459640" cy="895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Arial"/>
              </a:rPr>
              <a:t>SEN PUPILS – ADEQUATE PROGRES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971640" y="1557360"/>
            <a:ext cx="79214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th the right SEN provision, SEN pupils are expected to make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dequate progr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Adequate progress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ean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N pupil makes similar progress to their peers, starting from the same basel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tches or betters the SEN pupil’s previous rate of progr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oses the attainment gap between the SEN pupil and their pe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vents the attainment gap growing w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8280360" cy="107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HIGH QUALITY TEACHING FOR ALL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900000" y="1557360"/>
            <a:ext cx="8064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Verdana"/>
              </a:rPr>
              <a:t>High quality teaching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r all features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ilds on SEN pupils prior lear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N pupils are active learners &amp; extend lear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s multi-sensory learning approaches (VAK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achers/TA model good learning &amp; how to lear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ood use is made of open questioning, thinking aloud, explanation, and thinking time is giv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pils talk about their learning, &amp; work in pairs, groups, whole class, and independent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rriculum materials match pupils’ reading 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arning broken down into small ste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6T03:39:07Z</dcterms:created>
  <dc:creator>Rita Cheminais</dc:creator>
  <dc:description/>
  <dc:language>en-US</dc:language>
  <cp:lastModifiedBy>mdavey</cp:lastModifiedBy>
  <dcterms:modified xsi:type="dcterms:W3CDTF">2014-03-03T09:07:04Z</dcterms:modified>
  <cp:revision>42</cp:revision>
  <dc:subject/>
  <dc:title>LEARN TO LISTEN TO THE PUPIL VOICE</dc:title>
</cp:coreProperties>
</file>